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93CA4-9525-49AC-9BEB-7A8918F73FCF}" type="slidenum">
              <a:rPr b="0" lang="en-C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8FCD3-45FA-472A-8748-480E9CD939B1}"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70AB5-02EC-438E-AEEF-B0EAE2B36CD7}"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E2F92-447D-4E56-B455-AA874F81885B}"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27578-4D3D-4923-9AD2-2D7B053EFB39}"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C1819-07CB-4683-961E-19DEA29839D8}"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905E4-D7A9-4AB3-9EA6-1F216E74E910}"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AE48B-8317-4A69-BD99-860D3D43CDDF}"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504FC-5C6D-4698-A5C9-90B6A3EE0D21}"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57F1F-4ABD-4DA6-B6EB-7C7FEA3B3351}"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A6A1E-FE19-449E-AFA6-1EA986DDA2E5}"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CA31B-6AFC-4CF7-9C22-3656D7F2D1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B890A-1ED1-446D-82BD-0868C3C32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26D2F-C8DA-416D-BEF0-ACC694767E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1CA3ED-F37C-49A0-9A7C-FF2972A960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40B863-1A78-4E34-B37C-BBC54875FD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2D6896-517A-44D6-B5B3-4214518899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DCBB93-0B4C-4B2B-AD7C-6442965C58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A5B411-D877-4DEC-9B2E-ABEA661A6A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479F2C-D1F6-42B1-8D9F-CC24EC6751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05BB81-6799-4034-A6C5-8BEEAD769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99665-01BC-4771-814C-00019DD96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A7118-E797-4F3F-A5BB-58C2BB433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B40AB-48D0-4B23-8D85-5C4F31F82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66DCD-A376-4CF6-94EE-96E29FBF5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533267-E38A-475B-82D6-49E64E3CE7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9E5844-EA7C-42A8-8C0B-B190CB37BE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4CD4A2-040C-4C36-A8FD-2E4FCDEFAC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262A2E-903C-47A1-96EE-496858A5B0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C8B95C-04ED-4789-A4F9-86757FB396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434C81-0FE7-4021-BCDA-875DD86ABF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E25BC5-297F-42E6-86AD-9FD3BBCD7F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25DDE5-E914-4063-B170-0B91752461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7F362-6FBB-49D1-864B-B67A849A4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A0CF62-011A-4F0B-8189-262586910E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551369-9B8F-460D-87CA-9366B2D9C9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7EB452-EBCE-4A6E-B10F-CF01EF2140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583407-67F1-4C9C-A0E6-7FEED98132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EB38C2-D4A5-4ECC-A2F4-505F3A3EE4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5DC2C8-E091-48B3-9751-B38A878A83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51D299-24AA-4227-9E62-B27A73A850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149F9E-F4F0-4FC6-A166-9EDBC48CA2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BD6724-63BE-44D8-98F2-6A7ED3BDE7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08887F-6F41-4B6C-80A4-33EAF52E4B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F07F8-1C62-4C38-885D-EED8A6532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B624F7-2A22-4127-B1F4-1A14A18467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C0BDDB-F78D-43DC-8E57-6830EA7016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B57474-FFDF-4E66-9989-A6800C5D57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21DE64-875B-4CA3-92D5-250ED329AE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846407-3526-4F4D-84B1-3052DF61EF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FD8E1F-B972-401D-9C77-6C69DA7A23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03A974-C738-49FC-A85A-E1A5386A16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47E714-0B8F-4F27-A596-54EF52E1C6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214F9E-BE56-4F7E-A5F5-8E81A0E494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875B5B-AD55-4701-A553-AC6C769F4F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ADFAE-72F9-49A2-BAD8-029B2A278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FB1FD7-2AEB-4C6E-94EA-32A57B7A30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9878BB-7D3E-4EEF-A798-76E11DB725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91F6E4-9EF9-49C8-B65A-B891ECAEB4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06BAA6-0A99-4439-911C-F95F43F0A3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B4B228-63B0-44DA-9BA6-F6889787A1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A803C3-744C-463F-B553-42BF3A80F6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2929B7-4B40-4ED1-9349-03E40FDC9C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7A8F73-25CA-489E-A05D-848F339B14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F4F842-D4C8-4CD2-BFBF-3E4C4C6FB1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F4BF04-B4B1-4925-A3C9-2E3ECA8AFC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19BEA-430E-4144-ACB8-2772EDAE5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2A07E5-0C94-428E-A511-442394F2F9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6AF35-C7B6-40C3-9304-2B6B6E663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D193D-59AE-4D5F-9F3F-DAB2E9BE1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3F592-E138-4B3E-B75B-54A92B235A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073A8-3C3B-4621-B047-8584A258C0BC}" type="slidenum">
              <a:rPr b="0" lang="en-CA"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3F3C8-7E22-4D78-BA7D-303C5A2365AF}" type="slidenum">
              <a:rPr b="0" lang="en-CA"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A07AE-29A4-484A-8B8E-CAF1DA7F2C43}" type="slidenum">
              <a:rPr b="0" lang="en-CA"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1C7A2-4539-410A-B74B-724EDCCA0336}" type="slidenum">
              <a:rPr b="0" lang="en-CA"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D437C-095F-45E9-8357-E111BC6A1868}" type="slidenum">
              <a:rPr b="0" lang="en-CA"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hyperphysics.phy-astr.gsu.edu/hbase/kinetic/watvap.html#c1"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600" spc="-1" strike="noStrike">
              <a:solidFill>
                <a:srgbClr val="696464"/>
              </a:solidFill>
              <a:latin typeface="Perpetua"/>
            </a:endParaRPr>
          </a:p>
        </p:txBody>
      </p:sp>
      <p:sp>
        <p:nvSpPr>
          <p:cNvPr id="236"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Franklin Gothic Book"/>
              </a:rPr>
              <a:t>Cloud Formation</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696464"/>
                </a:solidFill>
                <a:latin typeface="Franklin Gothic Book"/>
              </a:rPr>
              <a:t>Answer</a:t>
            </a:r>
            <a:endParaRPr b="0" lang="en-US" sz="4000" spc="-1" strike="noStrike">
              <a:solidFill>
                <a:srgbClr val="696464"/>
              </a:solidFill>
              <a:latin typeface="Franklin Gothic Book"/>
            </a:endParaRPr>
          </a:p>
        </p:txBody>
      </p:sp>
      <p:sp>
        <p:nvSpPr>
          <p:cNvPr id="254"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Perpetua"/>
              </a:rPr>
              <a:t>57.8%</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Perpetua"/>
              </a:rPr>
              <a:t>When you use this percentage value and the given temperature along with your heat index you can estimate how hot it would actually feel outside.</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696464"/>
                </a:solidFill>
                <a:latin typeface="Franklin Gothic Book"/>
              </a:rPr>
              <a:t>Formation of Clouds</a:t>
            </a:r>
            <a:endParaRPr b="0" lang="en-US" sz="4000" spc="-1" strike="noStrike">
              <a:solidFill>
                <a:srgbClr val="696464"/>
              </a:solidFill>
              <a:latin typeface="Franklin Gothic Book"/>
            </a:endParaRPr>
          </a:p>
        </p:txBody>
      </p:sp>
      <p:sp>
        <p:nvSpPr>
          <p:cNvPr id="23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Perpetua"/>
              </a:rPr>
              <a:t>Clouds are formed when water vapour is cooled below the dew point during its upward movement.</a:t>
            </a:r>
            <a:br>
              <a:rPr sz="2600"/>
            </a:br>
            <a:r>
              <a:rPr b="0" lang="en-CA" sz="2600" spc="-1" strike="noStrike">
                <a:solidFill>
                  <a:srgbClr val="000000"/>
                </a:solidFill>
                <a:latin typeface="Perpetua"/>
              </a:rPr>
              <a:t>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Perpetua"/>
              </a:rPr>
              <a:t>Dew point </a:t>
            </a:r>
            <a:r>
              <a:rPr b="0" lang="en-CA" sz="2400" spc="-1" strike="noStrike">
                <a:solidFill>
                  <a:srgbClr val="000000"/>
                </a:solidFill>
                <a:latin typeface="Perpetua"/>
              </a:rPr>
              <a:t>– the temperature at which water vapour is turned into water.</a:t>
            </a:r>
            <a:br>
              <a:rPr sz="2400"/>
            </a:br>
            <a:r>
              <a:rPr b="0" lang="en-CA" sz="2400" spc="-1" strike="noStrike">
                <a:solidFill>
                  <a:srgbClr val="000000"/>
                </a:solidFill>
                <a:latin typeface="Perpetua"/>
              </a:rPr>
              <a:t>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Perpetua"/>
              </a:rPr>
              <a:t>The resulting moisture condenses into droplets on microscopic dust particles in the atmospher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696464"/>
                </a:solidFill>
                <a:latin typeface="Franklin Gothic Book"/>
              </a:rPr>
              <a:t>Classification of Clouds</a:t>
            </a:r>
            <a:endParaRPr b="0" lang="en-US" sz="4000" spc="-1" strike="noStrike">
              <a:solidFill>
                <a:srgbClr val="696464"/>
              </a:solidFill>
              <a:latin typeface="Franklin Gothic Book"/>
            </a:endParaRPr>
          </a:p>
        </p:txBody>
      </p:sp>
      <p:sp>
        <p:nvSpPr>
          <p:cNvPr id="240"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Perpetua"/>
              </a:rPr>
              <a:t>There are three basic cloud types:</a:t>
            </a:r>
            <a:br>
              <a:rPr sz="2400"/>
            </a:br>
            <a:r>
              <a:rPr b="0" lang="en-CA" sz="2400" spc="-1" strike="noStrike">
                <a:solidFill>
                  <a:srgbClr val="000000"/>
                </a:solidFill>
                <a:latin typeface="Perpetua"/>
              </a:rPr>
              <a:t>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Perpetua"/>
              </a:rPr>
              <a:t>Cirrus (Ice Crystals)</a:t>
            </a:r>
            <a:endParaRPr b="0" lang="en-US" sz="22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Perpetua"/>
              </a:rPr>
              <a:t>Cumulus (Fluffy)</a:t>
            </a:r>
            <a:endParaRPr b="0" lang="en-US" sz="22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Perpetua"/>
              </a:rPr>
              <a:t>Stratus (Wispy)</a:t>
            </a:r>
            <a:br>
              <a:rPr sz="2200"/>
            </a:br>
            <a:r>
              <a:rPr b="0" lang="en-CA" sz="2200" spc="-1" strike="noStrike">
                <a:solidFill>
                  <a:srgbClr val="000000"/>
                </a:solidFill>
                <a:latin typeface="Perpetua"/>
              </a:rPr>
              <a:t> </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Perpetua"/>
              </a:rPr>
              <a:t>Today’s classification has four main divisions:</a:t>
            </a:r>
            <a:br>
              <a:rPr sz="2400"/>
            </a:br>
            <a:r>
              <a:rPr b="0" lang="en-CA" sz="2400" spc="-1" strike="noStrike">
                <a:solidFill>
                  <a:srgbClr val="000000"/>
                </a:solidFill>
                <a:latin typeface="Perpetua"/>
              </a:rPr>
              <a:t>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Perpetua"/>
              </a:rPr>
              <a:t>High clouds (6 100 – 12 200 m)</a:t>
            </a:r>
            <a:endParaRPr b="0" lang="en-US" sz="22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Perpetua"/>
              </a:rPr>
              <a:t>Intermediate clouds (1 980 – 6 100 m)</a:t>
            </a:r>
            <a:endParaRPr b="0" lang="en-US" sz="22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Perpetua"/>
              </a:rPr>
              <a:t>Low clouds (near ground level – 1 980 m)</a:t>
            </a:r>
            <a:endParaRPr b="0" lang="en-US" sz="22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Perpetua"/>
              </a:rPr>
              <a:t>Clouds with vertical development (490 – 6 100 m)</a:t>
            </a: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000" spc="-1" strike="noStrike">
              <a:solidFill>
                <a:srgbClr val="696464"/>
              </a:solidFill>
              <a:latin typeface="Franklin Gothic Book"/>
            </a:endParaRPr>
          </a:p>
        </p:txBody>
      </p:sp>
      <p:sp>
        <p:nvSpPr>
          <p:cNvPr id="242"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Black"/>
              </a:rPr>
              <a:t>High Clouds have the prefix of </a:t>
            </a:r>
            <a:r>
              <a:rPr b="1" lang="en-CA" sz="1800" spc="-1" strike="noStrike">
                <a:solidFill>
                  <a:srgbClr val="000000"/>
                </a:solidFill>
                <a:latin typeface="Arial Black"/>
              </a:rPr>
              <a:t>cirro</a:t>
            </a:r>
            <a:endParaRPr b="0" lang="en-US" sz="18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Black"/>
              </a:rPr>
              <a:t>Cirrus</a:t>
            </a:r>
            <a:endParaRPr b="0" lang="en-US" sz="17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Black"/>
              </a:rPr>
              <a:t>Cirrocumulus</a:t>
            </a:r>
            <a:endParaRPr b="0" lang="en-US" sz="17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Black"/>
              </a:rPr>
              <a:t>Cirrostratus</a:t>
            </a:r>
            <a:br>
              <a:rPr sz="1700"/>
            </a:br>
            <a:r>
              <a:rPr b="0" lang="en-CA" sz="1700" spc="-1" strike="noStrike">
                <a:solidFill>
                  <a:srgbClr val="000000"/>
                </a:solidFill>
                <a:latin typeface="Arial Black"/>
              </a:rPr>
              <a:t> </a:t>
            </a:r>
            <a:endParaRPr b="0" lang="en-US" sz="17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Black"/>
              </a:rPr>
              <a:t>Intermediate Clouds have the prefix of </a:t>
            </a:r>
            <a:r>
              <a:rPr b="1" lang="en-CA" sz="1800" spc="-1" strike="noStrike">
                <a:solidFill>
                  <a:srgbClr val="000000"/>
                </a:solidFill>
                <a:latin typeface="Arial Black"/>
              </a:rPr>
              <a:t>alto</a:t>
            </a:r>
            <a:endParaRPr b="0" lang="en-US" sz="18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Black"/>
              </a:rPr>
              <a:t>Altocumulus</a:t>
            </a:r>
            <a:endParaRPr b="0" lang="en-US" sz="17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Black"/>
              </a:rPr>
              <a:t>Altostratus</a:t>
            </a:r>
            <a:br>
              <a:rPr sz="1700"/>
            </a:br>
            <a:r>
              <a:rPr b="0" lang="en-CA" sz="1700" spc="-1" strike="noStrike">
                <a:solidFill>
                  <a:srgbClr val="000000"/>
                </a:solidFill>
                <a:latin typeface="Arial Black"/>
              </a:rPr>
              <a:t> </a:t>
            </a:r>
            <a:endParaRPr b="0" lang="en-US" sz="17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Black"/>
              </a:rPr>
              <a:t>Low Clouds have the prefix of </a:t>
            </a:r>
            <a:r>
              <a:rPr b="1" lang="en-CA" sz="1800" spc="-1" strike="noStrike">
                <a:solidFill>
                  <a:srgbClr val="000000"/>
                </a:solidFill>
                <a:latin typeface="Arial Black"/>
              </a:rPr>
              <a:t>strato</a:t>
            </a:r>
            <a:endParaRPr b="0" lang="en-US" sz="18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Black"/>
              </a:rPr>
              <a:t>Stratus</a:t>
            </a:r>
            <a:endParaRPr b="0" lang="en-US" sz="17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Black"/>
              </a:rPr>
              <a:t>Nimbostratus – continuous rain or snow</a:t>
            </a:r>
            <a:endParaRPr b="0" lang="en-US" sz="17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Black"/>
              </a:rPr>
              <a:t>Stratocumulus</a:t>
            </a:r>
            <a:br>
              <a:rPr sz="1700"/>
            </a:br>
            <a:r>
              <a:rPr b="0" lang="en-CA" sz="1700" spc="-1" strike="noStrike">
                <a:solidFill>
                  <a:srgbClr val="000000"/>
                </a:solidFill>
                <a:latin typeface="Arial Black"/>
              </a:rPr>
              <a:t> </a:t>
            </a:r>
            <a:endParaRPr b="0" lang="en-US" sz="17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Black"/>
              </a:rPr>
              <a:t>Clouds having Vertical Development</a:t>
            </a:r>
            <a:endParaRPr b="0" lang="en-US" sz="18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Black"/>
              </a:rPr>
              <a:t>Cumulus</a:t>
            </a:r>
            <a:endParaRPr b="0" lang="en-US" sz="17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Black"/>
              </a:rPr>
              <a:t>Cumulonimbus – produce rain showers, and light snow, hail, or thunderstorms</a:t>
            </a:r>
            <a:endParaRPr b="0" lang="en-US" sz="17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696464"/>
                </a:solidFill>
                <a:latin typeface="Franklin Gothic Book"/>
              </a:rPr>
              <a:t>How Clouds Influence Climate</a:t>
            </a:r>
            <a:endParaRPr b="0" lang="en-US" sz="4000" spc="-1" strike="noStrike">
              <a:solidFill>
                <a:srgbClr val="696464"/>
              </a:solidFill>
              <a:latin typeface="Franklin Gothic Book"/>
            </a:endParaRPr>
          </a:p>
        </p:txBody>
      </p:sp>
      <p:sp>
        <p:nvSpPr>
          <p:cNvPr id="244" name=""/>
          <p:cNvSpPr txBox="1"/>
          <p:nvPr/>
        </p:nvSpPr>
        <p:spPr>
          <a:xfrm>
            <a:off x="914400" y="1447920"/>
            <a:ext cx="7772400" cy="4572000"/>
          </a:xfrm>
          <a:prstGeom prst="rect">
            <a:avLst/>
          </a:prstGeom>
          <a:noFill/>
          <a:ln w="0">
            <a:noFill/>
          </a:ln>
        </p:spPr>
        <p:txBody>
          <a:bodyPr anchor="t">
            <a:normAutofit fontScale="96000"/>
          </a:bodyPr>
          <a:p>
            <a:pPr marL="261720" indent="-2617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Perpetua"/>
              </a:rPr>
              <a:t>Cloudiness</a:t>
            </a:r>
            <a:r>
              <a:rPr b="0" lang="en-CA" sz="2400" spc="-1" strike="noStrike">
                <a:solidFill>
                  <a:srgbClr val="000000"/>
                </a:solidFill>
                <a:latin typeface="Perpetua"/>
              </a:rPr>
              <a:t> – the proportion of the sky covered by any form of cloud</a:t>
            </a:r>
            <a:br>
              <a:rPr sz="2400"/>
            </a:br>
            <a:r>
              <a:rPr b="0" lang="en-CA" sz="2400" spc="-1" strike="noStrike">
                <a:solidFill>
                  <a:srgbClr val="000000"/>
                </a:solidFill>
                <a:latin typeface="Perpetua"/>
              </a:rPr>
              <a:t> </a:t>
            </a:r>
            <a:endParaRPr b="0" lang="en-US" sz="2400" spc="-1" strike="noStrike">
              <a:solidFill>
                <a:srgbClr val="000000"/>
              </a:solidFill>
              <a:latin typeface="Perpetua"/>
            </a:endParaRPr>
          </a:p>
          <a:p>
            <a:pPr marL="261720" indent="-2617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Perpetua"/>
              </a:rPr>
              <a:t>Clouds have become an important focus in the study of global warming or cooling, including how the increase or decrease in cloud cover can effect the amount of radiation reflected from the earth back into space.</a:t>
            </a:r>
            <a:br>
              <a:rPr sz="2400"/>
            </a:br>
            <a:r>
              <a:rPr b="0" lang="en-CA" sz="2400" spc="-1" strike="noStrike">
                <a:solidFill>
                  <a:srgbClr val="000000"/>
                </a:solidFill>
                <a:latin typeface="Perpetua"/>
              </a:rPr>
              <a:t> </a:t>
            </a:r>
            <a:endParaRPr b="0" lang="en-US" sz="2400" spc="-1" strike="noStrike">
              <a:solidFill>
                <a:srgbClr val="000000"/>
              </a:solidFill>
              <a:latin typeface="Perpetua"/>
            </a:endParaRPr>
          </a:p>
          <a:p>
            <a:pPr lvl="1" marL="525600" indent="-21924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Perpetua"/>
              </a:rPr>
              <a:t>Cirrus clouds reflect only a small percentage of the incoming radiation from the sun warming the earth.</a:t>
            </a:r>
            <a:br>
              <a:rPr sz="2200"/>
            </a:br>
            <a:r>
              <a:rPr b="0" lang="en-CA" sz="2200" spc="-1" strike="noStrike">
                <a:solidFill>
                  <a:srgbClr val="000000"/>
                </a:solidFill>
                <a:latin typeface="Perpetua"/>
              </a:rPr>
              <a:t> </a:t>
            </a:r>
            <a:endParaRPr b="0" lang="en-US" sz="2200" spc="-1" strike="noStrike">
              <a:solidFill>
                <a:srgbClr val="000000"/>
              </a:solidFill>
              <a:latin typeface="Perpetua"/>
            </a:endParaRPr>
          </a:p>
          <a:p>
            <a:pPr lvl="1" marL="525600" indent="-21924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Perpetua"/>
              </a:rPr>
              <a:t>Low stratiform clouds reflect most of the radiation coming from the sun, causing a net cooling.</a:t>
            </a: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696464"/>
                </a:solidFill>
                <a:latin typeface="Franklin Gothic Book"/>
              </a:rPr>
              <a:t>Humidity</a:t>
            </a:r>
            <a:endParaRPr b="0" lang="en-US" sz="4000" spc="-1" strike="noStrike">
              <a:solidFill>
                <a:srgbClr val="696464"/>
              </a:solidFill>
              <a:latin typeface="Franklin Gothic Book"/>
            </a:endParaRPr>
          </a:p>
        </p:txBody>
      </p:sp>
      <p:sp>
        <p:nvSpPr>
          <p:cNvPr id="246"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Perpetua"/>
              </a:rPr>
              <a:t>Humidity </a:t>
            </a:r>
            <a:r>
              <a:rPr b="0" lang="en-CA" sz="2600" spc="-1" strike="noStrike">
                <a:solidFill>
                  <a:srgbClr val="000000"/>
                </a:solidFill>
                <a:latin typeface="Perpetua"/>
              </a:rPr>
              <a:t>– the amount of water vapour in the air.</a:t>
            </a:r>
            <a:br>
              <a:rPr sz="2600"/>
            </a:br>
            <a:r>
              <a:rPr b="0" lang="en-CA"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Perpetua"/>
              </a:rPr>
              <a:t>Humidity indicates the likelihood of precipitation, dew, or fog.</a:t>
            </a:r>
            <a:br>
              <a:rPr sz="2600"/>
            </a:br>
            <a:r>
              <a:rPr b="0" lang="en-CA" sz="2600" spc="-1" strike="noStrike">
                <a:solidFill>
                  <a:srgbClr val="000000"/>
                </a:solidFill>
                <a:latin typeface="Perpetua"/>
              </a:rPr>
              <a:t>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Perpetua"/>
              </a:rPr>
              <a:t>High humidity makes people feel hotter outside in the summer by preventing sweat from evaporating from the body.</a:t>
            </a:r>
            <a:br>
              <a:rPr sz="2400"/>
            </a:br>
            <a:r>
              <a:rPr b="0" lang="en-CA" sz="2400" spc="-1" strike="noStrike">
                <a:solidFill>
                  <a:srgbClr val="000000"/>
                </a:solidFill>
                <a:latin typeface="Perpetua"/>
              </a:rPr>
              <a:t>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Perpetua"/>
              </a:rPr>
              <a:t>This effect is calculated in a heat index table.</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000" spc="-1" strike="noStrike">
              <a:solidFill>
                <a:srgbClr val="696464"/>
              </a:solidFill>
              <a:latin typeface="Franklin Gothic Book"/>
            </a:endParaRPr>
          </a:p>
        </p:txBody>
      </p:sp>
      <p:sp>
        <p:nvSpPr>
          <p:cNvPr id="24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696464"/>
                </a:solidFill>
                <a:latin typeface="Franklin Gothic Book"/>
              </a:rPr>
              <a:t>Calculating Relative Humidity</a:t>
            </a:r>
            <a:endParaRPr b="0" lang="en-US" sz="4000" spc="-1" strike="noStrike">
              <a:solidFill>
                <a:srgbClr val="696464"/>
              </a:solidFill>
              <a:latin typeface="Franklin Gothic Book"/>
            </a:endParaRPr>
          </a:p>
        </p:txBody>
      </p:sp>
      <p:sp>
        <p:nvSpPr>
          <p:cNvPr id="250" name=""/>
          <p:cNvSpPr txBox="1"/>
          <p:nvPr/>
        </p:nvSpPr>
        <p:spPr>
          <a:xfrm>
            <a:off x="914400" y="1447920"/>
            <a:ext cx="7772400" cy="4572000"/>
          </a:xfrm>
          <a:prstGeom prst="rect">
            <a:avLst/>
          </a:prstGeom>
          <a:noFill/>
          <a:ln w="0">
            <a:noFill/>
          </a:ln>
        </p:spPr>
        <p:txBody>
          <a:bodyPr anchor="t">
            <a:normAutofit fontScale="92000"/>
          </a:bodyPr>
          <a:p>
            <a:pPr marL="250920" indent="-2509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0920" indent="-2509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Perpetua"/>
              </a:rPr>
              <a:t>Relative Humidity </a:t>
            </a:r>
            <a:endParaRPr b="0" lang="en-US" sz="2400" spc="-1" strike="noStrike">
              <a:solidFill>
                <a:srgbClr val="000000"/>
              </a:solidFill>
              <a:latin typeface="Perpetua"/>
            </a:endParaRPr>
          </a:p>
          <a:p>
            <a:pPr marL="250920" indent="-2509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Perpetua"/>
              </a:rPr>
              <a:t>The amount of water vapor in the air at any given time is usually less than that required to saturate the air. </a:t>
            </a:r>
            <a:endParaRPr b="0" lang="en-US" sz="2400" spc="-1" strike="noStrike">
              <a:solidFill>
                <a:srgbClr val="000000"/>
              </a:solidFill>
              <a:latin typeface="Perpetua"/>
            </a:endParaRPr>
          </a:p>
          <a:p>
            <a:pPr marL="250920" indent="-2509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0920" indent="-2509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Perpetua"/>
              </a:rPr>
              <a:t>Relative Humidity = </a:t>
            </a:r>
            <a:r>
              <a:rPr b="0" lang="en-CA" sz="2400" spc="-1" strike="noStrike">
                <a:solidFill>
                  <a:srgbClr val="000000"/>
                </a:solidFill>
                <a:latin typeface="Perpetua"/>
              </a:rPr>
              <a:t>	</a:t>
            </a:r>
            <a:r>
              <a:rPr b="0" lang="en-CA" sz="2400" spc="-1" strike="noStrike" u="sng">
                <a:solidFill>
                  <a:srgbClr val="000000"/>
                </a:solidFill>
                <a:uFillTx/>
                <a:latin typeface="Perpetua"/>
              </a:rPr>
              <a:t>(actual vapour density)</a:t>
            </a:r>
            <a:r>
              <a:rPr b="0" lang="en-CA" sz="2400" spc="-1" strike="noStrike">
                <a:solidFill>
                  <a:srgbClr val="000000"/>
                </a:solidFill>
                <a:latin typeface="Perpetua"/>
              </a:rPr>
              <a:t> </a:t>
            </a:r>
            <a:r>
              <a:rPr b="0" lang="en-CA" sz="2400" spc="-1" strike="noStrike">
                <a:solidFill>
                  <a:srgbClr val="000000"/>
                </a:solidFill>
                <a:latin typeface="Perpetua"/>
              </a:rPr>
              <a:t>	</a:t>
            </a:r>
            <a:r>
              <a:rPr b="0" lang="en-CA" sz="2400" spc="-1" strike="noStrike">
                <a:solidFill>
                  <a:srgbClr val="000000"/>
                </a:solidFill>
                <a:latin typeface="Perpetua"/>
              </a:rPr>
              <a:t>	</a:t>
            </a:r>
            <a:r>
              <a:rPr b="0" lang="en-CA" sz="2400" spc="-1" strike="noStrike">
                <a:solidFill>
                  <a:srgbClr val="000000"/>
                </a:solidFill>
                <a:latin typeface="Perpetua"/>
              </a:rPr>
              <a:t>x 100%</a:t>
            </a:r>
            <a:endParaRPr b="0" lang="en-US" sz="2400" spc="-1" strike="noStrike">
              <a:solidFill>
                <a:srgbClr val="000000"/>
              </a:solidFill>
              <a:latin typeface="Perpetua"/>
            </a:endParaRPr>
          </a:p>
          <a:p>
            <a:pPr marL="250920" indent="-2509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Perpetua"/>
              </a:rPr>
              <a:t>	</a:t>
            </a:r>
            <a:r>
              <a:rPr b="0" lang="en-CA" sz="2400" spc="-1" strike="noStrike">
                <a:solidFill>
                  <a:srgbClr val="000000"/>
                </a:solidFill>
                <a:latin typeface="Perpetua"/>
              </a:rPr>
              <a:t>	</a:t>
            </a:r>
            <a:r>
              <a:rPr b="0" lang="en-CA" sz="2400" spc="-1" strike="noStrike">
                <a:solidFill>
                  <a:srgbClr val="000000"/>
                </a:solidFill>
                <a:latin typeface="Perpetua"/>
              </a:rPr>
              <a:t>	</a:t>
            </a:r>
            <a:r>
              <a:rPr b="0" lang="en-CA" sz="2400" spc="-1" strike="noStrike">
                <a:solidFill>
                  <a:srgbClr val="000000"/>
                </a:solidFill>
                <a:latin typeface="Perpetua"/>
              </a:rPr>
              <a:t>           </a:t>
            </a:r>
            <a:r>
              <a:rPr b="0" lang="en-CA" sz="2400" spc="-1" strike="noStrike">
                <a:solidFill>
                  <a:srgbClr val="000000"/>
                </a:solidFill>
                <a:latin typeface="Perpetua"/>
              </a:rPr>
              <a:t>(saturation vapour density)</a:t>
            </a:r>
            <a:endParaRPr b="0" lang="en-US" sz="2400" spc="-1" strike="noStrike">
              <a:solidFill>
                <a:srgbClr val="000000"/>
              </a:solidFill>
              <a:latin typeface="Perpetua"/>
            </a:endParaRPr>
          </a:p>
          <a:p>
            <a:pPr marL="250920" indent="-2509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CA" sz="2400" spc="-1" strike="noStrike">
                <a:solidFill>
                  <a:srgbClr val="000000"/>
                </a:solidFill>
                <a:latin typeface="Perpetua"/>
              </a:rPr>
              <a:t>The most common units for vapor density are g/m</a:t>
            </a:r>
            <a:r>
              <a:rPr b="0" lang="en-CA" sz="2400" spc="-1" strike="noStrike" baseline="30000">
                <a:solidFill>
                  <a:srgbClr val="000000"/>
                </a:solidFill>
                <a:latin typeface="Perpetua"/>
              </a:rPr>
              <a:t>3</a:t>
            </a:r>
            <a:r>
              <a:rPr b="0" lang="en-CA" sz="2400" spc="-1" strike="noStrike">
                <a:solidFill>
                  <a:srgbClr val="000000"/>
                </a:solidFill>
                <a:latin typeface="Perpetua"/>
              </a:rPr>
              <a:t>. For example, if the actual vapor density is 10 g/m</a:t>
            </a:r>
            <a:r>
              <a:rPr b="0" lang="en-CA" sz="2400" spc="-1" strike="noStrike" baseline="30000">
                <a:solidFill>
                  <a:srgbClr val="000000"/>
                </a:solidFill>
                <a:latin typeface="Perpetua"/>
              </a:rPr>
              <a:t>3</a:t>
            </a:r>
            <a:r>
              <a:rPr b="0" lang="en-CA" sz="2400" spc="-1" strike="noStrike">
                <a:solidFill>
                  <a:srgbClr val="000000"/>
                </a:solidFill>
                <a:latin typeface="Perpetua"/>
              </a:rPr>
              <a:t> at 23°C compared to the </a:t>
            </a:r>
            <a:r>
              <a:rPr b="0" lang="en-CA" sz="2400" spc="-1" strike="noStrike" u="sng">
                <a:solidFill>
                  <a:srgbClr val="cc9900"/>
                </a:solidFill>
                <a:uFillTx/>
                <a:latin typeface="Perpetua"/>
                <a:hlinkClick r:id="rId1"/>
              </a:rPr>
              <a:t>saturation vapor density</a:t>
            </a:r>
            <a:r>
              <a:rPr b="0" lang="en-CA" sz="2400" spc="-1" strike="noStrike">
                <a:solidFill>
                  <a:srgbClr val="000000"/>
                </a:solidFill>
                <a:latin typeface="Perpetua"/>
              </a:rPr>
              <a:t> at that temperature of 17.3 g/m</a:t>
            </a:r>
            <a:r>
              <a:rPr b="0" lang="en-CA" sz="2400" spc="-1" strike="noStrike" baseline="30000">
                <a:solidFill>
                  <a:srgbClr val="000000"/>
                </a:solidFill>
                <a:latin typeface="Perpetua"/>
              </a:rPr>
              <a:t>3</a:t>
            </a:r>
            <a:r>
              <a:rPr b="0" lang="en-CA" sz="2400" spc="-1" strike="noStrike">
                <a:solidFill>
                  <a:srgbClr val="000000"/>
                </a:solidFill>
                <a:latin typeface="Perpetua"/>
              </a:rPr>
              <a:t> , then the relative humidity is </a:t>
            </a:r>
            <a:br>
              <a:rPr sz="2400"/>
            </a:br>
            <a:r>
              <a:rPr b="0" lang="en-CA" sz="2400" spc="-1" strike="noStrike" u="sng">
                <a:solidFill>
                  <a:srgbClr val="cc9900"/>
                </a:solidFill>
                <a:uFillTx/>
                <a:latin typeface="Perpetua"/>
                <a:hlinkClick r:id="rId2" action="ppaction://hlinksldjump"/>
              </a:rPr>
              <a:t>Calculation</a:t>
            </a:r>
            <a:endParaRPr b="0" lang="en-US" sz="2400" spc="-1" strike="noStrike">
              <a:solidFill>
                <a:srgbClr val="000000"/>
              </a:solidFill>
              <a:latin typeface="Perpetua"/>
            </a:endParaRPr>
          </a:p>
          <a:p>
            <a:pPr marL="250920" indent="-2509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696464"/>
                </a:solidFill>
                <a:latin typeface="Franklin Gothic Book"/>
              </a:rPr>
              <a:t>Sample Problem 1</a:t>
            </a:r>
            <a:endParaRPr b="0" lang="en-US" sz="4000" spc="-1" strike="noStrike">
              <a:solidFill>
                <a:srgbClr val="696464"/>
              </a:solidFill>
              <a:latin typeface="Franklin Gothic Book"/>
            </a:endParaRPr>
          </a:p>
        </p:txBody>
      </p:sp>
      <p:sp>
        <p:nvSpPr>
          <p:cNvPr id="25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Perpetua"/>
              </a:rPr>
              <a:t>If the actual vapour density is 10 g/m</a:t>
            </a:r>
            <a:r>
              <a:rPr b="0" lang="en-CA" sz="2600" spc="-1" strike="noStrike" baseline="30000">
                <a:solidFill>
                  <a:srgbClr val="000000"/>
                </a:solidFill>
                <a:latin typeface="Perpetua"/>
              </a:rPr>
              <a:t>3</a:t>
            </a:r>
            <a:r>
              <a:rPr b="0" lang="en-CA" sz="2600" spc="-1" strike="noStrike">
                <a:solidFill>
                  <a:srgbClr val="000000"/>
                </a:solidFill>
                <a:latin typeface="Perpetua"/>
              </a:rPr>
              <a:t> at 22°C compared to the saturation vapour density at that temperature of 17.3 g/m</a:t>
            </a:r>
            <a:r>
              <a:rPr b="0" lang="en-CA" sz="2600" spc="-1" strike="noStrike" baseline="30000">
                <a:solidFill>
                  <a:srgbClr val="000000"/>
                </a:solidFill>
                <a:latin typeface="Perpetua"/>
              </a:rPr>
              <a:t>3</a:t>
            </a:r>
            <a:r>
              <a:rPr b="0" lang="en-CA" sz="2600" spc="-1" strike="noStrike">
                <a:solidFill>
                  <a:srgbClr val="000000"/>
                </a:solidFill>
                <a:latin typeface="Perpetua"/>
              </a:rPr>
              <a:t> , then the relative humidity i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22:41:59Z</dcterms:created>
  <dc:creator>Amy</dc:creator>
  <dc:description/>
  <dc:language>en-US</dc:language>
  <cp:lastModifiedBy>amy.cook</cp:lastModifiedBy>
  <dcterms:modified xsi:type="dcterms:W3CDTF">2011-01-11T20:11:15Z</dcterms:modified>
  <cp:revision>20</cp:revision>
  <dc:subject/>
  <dc:title>Cloud Formation</dc:title>
</cp:coreProperties>
</file>